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843-5954-4E7C-A5F7-F7244257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C5B-6079-428E-8B43-FD8831E4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EE4-E2AE-4BE1-A1CB-B4410F6A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4FF5-4FA7-4C5F-811E-BF9CD5DC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D733-DB81-4F19-90F9-218DD209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A50B-AD88-415B-B9A3-F85481D8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B270-7159-46A4-8CCC-4A3442EF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CBDC-6EFE-49E3-BA3F-CD7DEEC8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6B9D-A444-4FE6-B2FD-6C411F8F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266B-0530-4B3A-BDA2-290F0047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9D17-8D73-4C3C-A73E-4367ECBF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269-162F-4B76-86F9-C80CBB32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8D2C-9B81-4627-8E77-69247391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6428-BC39-4D0C-B968-E6FA187D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AAA8-8384-4368-BE16-4DAB122C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6D19-D961-4A7D-B000-82EC3873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FD86-E795-49DE-93F0-65ACC28D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9E1A-C53E-4258-9271-3EC0184B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126-7761-4E3E-8CA1-9826E295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92C-C113-4DC3-A7FD-E4D13067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046-D261-4F48-880A-A9F7EBA8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A3F-8010-4588-8BB6-0AB1D954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5E5-D2B8-4D0E-AB55-46F3985B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5447-BCD7-467D-AE07-088365D1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2D1F-FF64-4AB5-8524-610F3705E9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F104-B594-4859-87B1-00E5B6BB95F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530280" y="944640"/>
            <a:ext cx="8869320" cy="2262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GARET M. CES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5" descr="j0186348"/>
          <p:cNvPicPr/>
          <p:nvPr/>
        </p:nvPicPr>
        <p:blipFill>
          <a:blip r:embed="rId2"/>
          <a:stretch/>
        </p:blipFill>
        <p:spPr>
          <a:xfrm>
            <a:off x="1523880" y="2819520"/>
            <a:ext cx="1289160" cy="180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GARET CES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MBRIDGE COLLE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TION LITER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ISTO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grew up in Bradford and live in Haverhi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ried – two daughters, ages - 18 &amp; 2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ociate of Science in Human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ertified Alcohol &amp; Drug Counselor (CADC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rrent position – Intake Coordinator – MH &amp; 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rolled in Cambridge College/BS Human Serv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timated graduation 201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GOALS/OBJECTIVES</a:t>
            </a:r>
            <a:br>
              <a:rPr sz="4600"/>
            </a:b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maintain healthy living, by exercising and ea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althy foods (we love organic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culivate healthy relationships and care for my dear ones (daughters, husband, extended family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pursue education and secure a clinical posi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mental health field – utilize counseling ski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live with passion and gratitude everyd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Hobbies – free time</a:t>
            </a:r>
            <a:br>
              <a:rPr sz="4600"/>
            </a:b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walking – in woods, near oce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zumba class or home dv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watching movies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cooking (Italia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shopping with my gir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arde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4" descr="j0234131"/>
          <p:cNvPicPr/>
          <p:nvPr/>
        </p:nvPicPr>
        <p:blipFill>
          <a:blip r:embed="rId1"/>
          <a:stretch/>
        </p:blipFill>
        <p:spPr>
          <a:xfrm>
            <a:off x="5410080" y="213372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9:34:22Z</dcterms:created>
  <dc:creator>training</dc:creator>
  <dc:description/>
  <dc:language>en-US</dc:language>
  <cp:lastModifiedBy>ccstudent</cp:lastModifiedBy>
  <dcterms:modified xsi:type="dcterms:W3CDTF">2011-10-02T12:38:55Z</dcterms:modified>
  <cp:revision>17</cp:revision>
  <dc:subject/>
  <dc:title>Slide 1</dc:title>
</cp:coreProperties>
</file>